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D7E-FAF1-4F41-8D27-B92899FB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973-39B4-492F-ABE3-0E782284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04B-20BE-4217-8D43-62CF5831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986-1507-4649-BD4C-8DEF37EE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2B8D-9585-485F-808E-0DAF431E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26C1-B10A-4519-8F1E-4E2DC3D5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B43D-9051-4B01-88E6-734DA06B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950A-D3EE-4AC6-8785-1B798024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A3E7-786F-4C57-A02C-73DFC66A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F0B8-5457-4A06-9536-29F0F625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415F-34BD-47CB-B66A-557DEE10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EE7-A171-48D8-A598-A12AF761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B577-502B-49D7-AE7F-8A83F9AD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5D4F-A99A-49C1-A81E-66AE332E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F7E7-55A9-4CB3-9E86-71661EB7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AF47-963E-4B64-82C5-256460BD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2B52-6D9B-4793-91AB-95803852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8C1-F13E-4979-885C-40D40064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43C-928E-4E55-B9A6-7B75769C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00E-10BA-4B47-813A-B480E7A5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F65-7A69-4219-B770-BE8FF6E2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25E-CB46-4A1D-8039-3F73AD20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E36-D112-4B0F-A1A1-4F2E55CB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29A-7DE0-4DE4-99F9-8127955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50D8-BCE9-4D53-8D0E-D0BAD1ECC1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B015-E4EA-4898-9F76-5CF22C65939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571760" y="178596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整理与应用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1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571760" y="178596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8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整理与应用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1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1071720" y="121428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菜场运来白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比运来的萝卜少  。运来的白菜和萝卜一共有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2" name="Object 3"/>
          <p:cNvGraphicFramePr/>
          <p:nvPr/>
        </p:nvGraphicFramePr>
        <p:xfrm>
          <a:off x="7715160" y="1000080"/>
          <a:ext cx="36036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5160" y="1000080"/>
                    <a:ext cx="36036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4" name="组合 8"/>
          <p:cNvGrpSpPr/>
          <p:nvPr/>
        </p:nvGrpSpPr>
        <p:grpSpPr>
          <a:xfrm>
            <a:off x="2833200" y="2143080"/>
            <a:ext cx="2783880" cy="932040"/>
            <a:chOff x="2833200" y="2143080"/>
            <a:chExt cx="2783880" cy="932040"/>
          </a:xfrm>
        </p:grpSpPr>
        <p:sp>
          <p:nvSpPr>
            <p:cNvPr id="825" name="Rectangle 21"/>
            <p:cNvSpPr/>
            <p:nvPr/>
          </p:nvSpPr>
          <p:spPr>
            <a:xfrm>
              <a:off x="2833200" y="2334240"/>
              <a:ext cx="278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40÷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－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6" name="Object 4"/>
            <p:cNvGraphicFramePr/>
            <p:nvPr/>
          </p:nvGraphicFramePr>
          <p:xfrm>
            <a:off x="4726080" y="2143080"/>
            <a:ext cx="360360" cy="93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6080" y="2143080"/>
                      <a:ext cx="360360" cy="9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8" name="组合 12"/>
          <p:cNvGrpSpPr/>
          <p:nvPr/>
        </p:nvGrpSpPr>
        <p:grpSpPr>
          <a:xfrm>
            <a:off x="2482920" y="2786040"/>
            <a:ext cx="1677960" cy="932040"/>
            <a:chOff x="2482920" y="2786040"/>
            <a:chExt cx="1677960" cy="932040"/>
          </a:xfrm>
        </p:grpSpPr>
        <p:sp>
          <p:nvSpPr>
            <p:cNvPr id="829" name="Rectangle 21"/>
            <p:cNvSpPr/>
            <p:nvPr/>
          </p:nvSpPr>
          <p:spPr>
            <a:xfrm>
              <a:off x="2482920" y="2980440"/>
              <a:ext cx="13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40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0" name="Object 6"/>
            <p:cNvGraphicFramePr/>
            <p:nvPr/>
          </p:nvGraphicFramePr>
          <p:xfrm>
            <a:off x="3767400" y="2786040"/>
            <a:ext cx="393480" cy="93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1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67400" y="2786040"/>
                      <a:ext cx="393480" cy="9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2" name="Rectangle 21"/>
          <p:cNvSpPr/>
          <p:nvPr/>
        </p:nvSpPr>
        <p:spPr>
          <a:xfrm>
            <a:off x="2659320" y="364644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1859040" y="4214880"/>
            <a:ext cx="38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1"/>
          <p:cNvSpPr/>
          <p:nvPr/>
        </p:nvSpPr>
        <p:spPr>
          <a:xfrm>
            <a:off x="3775680" y="4691160"/>
            <a:ext cx="19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运来的萝卜和白菜一共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组合 5"/>
          <p:cNvGrpSpPr/>
          <p:nvPr/>
        </p:nvGrpSpPr>
        <p:grpSpPr>
          <a:xfrm>
            <a:off x="588960" y="873000"/>
            <a:ext cx="8197920" cy="2067120"/>
            <a:chOff x="588960" y="873000"/>
            <a:chExt cx="8197920" cy="2067120"/>
          </a:xfrm>
        </p:grpSpPr>
        <p:sp>
          <p:nvSpPr>
            <p:cNvPr id="836" name="Rectangle 2"/>
            <p:cNvSpPr/>
            <p:nvPr/>
          </p:nvSpPr>
          <p:spPr>
            <a:xfrm>
              <a:off x="588960" y="927000"/>
              <a:ext cx="819792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.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食堂买来青菜和萝卜，萝卜的质量是青菜的  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萝卜吃掉   后，青菜比萝卜多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千克。食堂买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萝卜和青菜各多少千克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7" name="Object 4"/>
            <p:cNvGraphicFramePr/>
            <p:nvPr/>
          </p:nvGraphicFramePr>
          <p:xfrm>
            <a:off x="7761600" y="873000"/>
            <a:ext cx="428400" cy="90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3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61600" y="873000"/>
                      <a:ext cx="428400" cy="90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9" name="Object 5"/>
            <p:cNvGraphicFramePr/>
            <p:nvPr/>
          </p:nvGraphicFramePr>
          <p:xfrm>
            <a:off x="2189160" y="1516320"/>
            <a:ext cx="428400" cy="900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0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9160" y="1516320"/>
                      <a:ext cx="428400" cy="90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41" name="组合 8"/>
          <p:cNvGrpSpPr/>
          <p:nvPr/>
        </p:nvGrpSpPr>
        <p:grpSpPr>
          <a:xfrm>
            <a:off x="946080" y="2673360"/>
            <a:ext cx="7202520" cy="931680"/>
            <a:chOff x="946080" y="2673360"/>
            <a:chExt cx="7202520" cy="931680"/>
          </a:xfrm>
        </p:grpSpPr>
        <p:sp>
          <p:nvSpPr>
            <p:cNvPr id="842" name="Rectangle 2"/>
            <p:cNvSpPr/>
            <p:nvPr/>
          </p:nvSpPr>
          <p:spPr>
            <a:xfrm>
              <a:off x="946080" y="2703240"/>
              <a:ext cx="72025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：设青菜有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千克，则萝卜为   千克。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3" name="Object 6"/>
            <p:cNvGraphicFramePr/>
            <p:nvPr/>
          </p:nvGraphicFramePr>
          <p:xfrm>
            <a:off x="5761080" y="2673360"/>
            <a:ext cx="571320" cy="93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4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61080" y="2673360"/>
                      <a:ext cx="571320" cy="93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45" name="Object 8"/>
          <p:cNvGraphicFramePr/>
          <p:nvPr/>
        </p:nvGraphicFramePr>
        <p:xfrm>
          <a:off x="2557440" y="3387600"/>
          <a:ext cx="2693880" cy="86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7440" y="3387600"/>
                    <a:ext cx="26938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9"/>
          <p:cNvGraphicFramePr/>
          <p:nvPr/>
        </p:nvGraphicFramePr>
        <p:xfrm>
          <a:off x="2927520" y="4170240"/>
          <a:ext cx="233352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27520" y="4170240"/>
                    <a:ext cx="23335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10"/>
          <p:cNvGraphicFramePr/>
          <p:nvPr/>
        </p:nvGraphicFramePr>
        <p:xfrm>
          <a:off x="4419720" y="4927680"/>
          <a:ext cx="1055520" cy="38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4927680"/>
                    <a:ext cx="10555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11"/>
          <p:cNvGraphicFramePr/>
          <p:nvPr/>
        </p:nvGraphicFramePr>
        <p:xfrm>
          <a:off x="3021120" y="5099040"/>
          <a:ext cx="3168720" cy="860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21120" y="5099040"/>
                    <a:ext cx="31687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Rectangle 2"/>
          <p:cNvSpPr/>
          <p:nvPr/>
        </p:nvSpPr>
        <p:spPr>
          <a:xfrm>
            <a:off x="1558800" y="5602320"/>
            <a:ext cx="6774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食堂买来青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，萝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6"/>
          <p:cNvSpPr/>
          <p:nvPr/>
        </p:nvSpPr>
        <p:spPr>
          <a:xfrm>
            <a:off x="1714680" y="32148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左大括号 12"/>
          <p:cNvSpPr/>
          <p:nvPr/>
        </p:nvSpPr>
        <p:spPr>
          <a:xfrm>
            <a:off x="2571840" y="1714680"/>
            <a:ext cx="357120" cy="3286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89640 h 3286080"/>
              <a:gd name="textAreaBottom" fmla="*/ 3196440 h 328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4"/>
                  <a:pt x="10800" y="1887"/>
                </a:cubicBezTo>
                <a:lnTo>
                  <a:pt x="10800" y="8913"/>
                </a:lnTo>
                <a:cubicBezTo>
                  <a:pt x="10800" y="9857"/>
                  <a:pt x="5400" y="10800"/>
                  <a:pt x="0" y="10800"/>
                </a:cubicBezTo>
                <a:cubicBezTo>
                  <a:pt x="5400" y="10800"/>
                  <a:pt x="10800" y="11744"/>
                  <a:pt x="10800" y="12687"/>
                </a:cubicBezTo>
                <a:lnTo>
                  <a:pt x="10800" y="19713"/>
                </a:lnTo>
                <a:cubicBezTo>
                  <a:pt x="10800" y="20657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2857680" y="142884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比例的意义与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2786040" y="25462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左大括号 15"/>
          <p:cNvSpPr/>
          <p:nvPr/>
        </p:nvSpPr>
        <p:spPr>
          <a:xfrm>
            <a:off x="4000680" y="2133720"/>
            <a:ext cx="357120" cy="1724040"/>
          </a:xfrm>
          <a:custGeom>
            <a:avLst/>
            <a:gdLst>
              <a:gd name="textAreaLeft" fmla="*/ 228240 w 357120"/>
              <a:gd name="textAreaRight" fmla="*/ 357480 w 357120"/>
              <a:gd name="textAreaTop" fmla="*/ 89640 h 1724040"/>
              <a:gd name="textAreaBottom" fmla="*/ 1634400 h 172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99"/>
                  <a:pt x="10800" y="3597"/>
                </a:cubicBezTo>
                <a:lnTo>
                  <a:pt x="10800" y="7203"/>
                </a:lnTo>
                <a:cubicBezTo>
                  <a:pt x="10800" y="9002"/>
                  <a:pt x="5400" y="10800"/>
                  <a:pt x="0" y="10800"/>
                </a:cubicBezTo>
                <a:cubicBezTo>
                  <a:pt x="5400" y="10800"/>
                  <a:pt x="10800" y="12599"/>
                  <a:pt x="10800" y="14397"/>
                </a:cubicBezTo>
                <a:lnTo>
                  <a:pt x="10800" y="18003"/>
                </a:lnTo>
                <a:cubicBezTo>
                  <a:pt x="10800" y="19802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4286160" y="19288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4286160" y="24526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4286160" y="29764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4286160" y="350028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应用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2786040" y="46180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左大括号 26"/>
          <p:cNvSpPr/>
          <p:nvPr/>
        </p:nvSpPr>
        <p:spPr>
          <a:xfrm>
            <a:off x="4000680" y="4276800"/>
            <a:ext cx="357120" cy="1224000"/>
          </a:xfrm>
          <a:custGeom>
            <a:avLst/>
            <a:gdLst>
              <a:gd name="textAreaLeft" fmla="*/ 228240 w 357120"/>
              <a:gd name="textAreaRight" fmla="*/ 357480 w 357120"/>
              <a:gd name="textAreaTop" fmla="*/ 89640 h 1224000"/>
              <a:gd name="textAreaBottom" fmla="*/ 113436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33"/>
                  <a:pt x="10800" y="5066"/>
                </a:cubicBezTo>
                <a:lnTo>
                  <a:pt x="10800" y="5734"/>
                </a:lnTo>
                <a:cubicBezTo>
                  <a:pt x="10800" y="8267"/>
                  <a:pt x="5400" y="10800"/>
                  <a:pt x="0" y="10800"/>
                </a:cubicBezTo>
                <a:cubicBezTo>
                  <a:pt x="5400" y="10800"/>
                  <a:pt x="10800" y="13333"/>
                  <a:pt x="10800" y="15866"/>
                </a:cubicBezTo>
                <a:lnTo>
                  <a:pt x="10800" y="16534"/>
                </a:lnTo>
                <a:cubicBezTo>
                  <a:pt x="10800" y="19067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4286160" y="4071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4286160" y="4572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4286160" y="507204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应用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6"/>
          <p:cNvSpPr/>
          <p:nvPr/>
        </p:nvSpPr>
        <p:spPr>
          <a:xfrm>
            <a:off x="866880" y="1071720"/>
            <a:ext cx="19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6"/>
          <p:cNvSpPr/>
          <p:nvPr/>
        </p:nvSpPr>
        <p:spPr>
          <a:xfrm>
            <a:off x="1214280" y="1571760"/>
            <a:ext cx="25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6"/>
          <p:cNvSpPr/>
          <p:nvPr/>
        </p:nvSpPr>
        <p:spPr>
          <a:xfrm>
            <a:off x="5072040" y="157176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6"/>
          <p:cNvSpPr/>
          <p:nvPr/>
        </p:nvSpPr>
        <p:spPr>
          <a:xfrm>
            <a:off x="1428840" y="209700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1785960" y="25718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÷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1785960" y="3071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6"/>
          <p:cNvSpPr/>
          <p:nvPr/>
        </p:nvSpPr>
        <p:spPr>
          <a:xfrm>
            <a:off x="5429160" y="209700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×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6"/>
          <p:cNvSpPr/>
          <p:nvPr/>
        </p:nvSpPr>
        <p:spPr>
          <a:xfrm>
            <a:off x="5786280" y="25718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2÷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5786280" y="3071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1214280" y="3571920"/>
            <a:ext cx="25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5143680" y="3571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1214280" y="4097160"/>
            <a:ext cx="25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6"/>
          <p:cNvSpPr/>
          <p:nvPr/>
        </p:nvSpPr>
        <p:spPr>
          <a:xfrm>
            <a:off x="1214280" y="457200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"/>
          <p:cNvSpPr/>
          <p:nvPr/>
        </p:nvSpPr>
        <p:spPr>
          <a:xfrm>
            <a:off x="1571760" y="507204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5143680" y="40971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1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5143680" y="4618080"/>
            <a:ext cx="20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4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5500800" y="51181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6"/>
          <p:cNvSpPr/>
          <p:nvPr/>
        </p:nvSpPr>
        <p:spPr>
          <a:xfrm>
            <a:off x="866880" y="1071720"/>
            <a:ext cx="19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1428840" y="257184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×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6"/>
          <p:cNvSpPr/>
          <p:nvPr/>
        </p:nvSpPr>
        <p:spPr>
          <a:xfrm>
            <a:off x="142884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1785960" y="35719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5" name="Object 2"/>
          <p:cNvGraphicFramePr/>
          <p:nvPr/>
        </p:nvGraphicFramePr>
        <p:xfrm>
          <a:off x="1714680" y="1660680"/>
          <a:ext cx="12142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660680"/>
                    <a:ext cx="1214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Object 3"/>
          <p:cNvGraphicFramePr/>
          <p:nvPr/>
        </p:nvGraphicFramePr>
        <p:xfrm>
          <a:off x="5286240" y="1714680"/>
          <a:ext cx="164160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6240" y="1714680"/>
                    <a:ext cx="16416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Object 4"/>
          <p:cNvGraphicFramePr/>
          <p:nvPr/>
        </p:nvGraphicFramePr>
        <p:xfrm>
          <a:off x="5500800" y="2571840"/>
          <a:ext cx="164304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0800" y="2571840"/>
                    <a:ext cx="16430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5"/>
          <p:cNvGraphicFramePr/>
          <p:nvPr/>
        </p:nvGraphicFramePr>
        <p:xfrm>
          <a:off x="5786280" y="4381560"/>
          <a:ext cx="1217880" cy="45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86280" y="4381560"/>
                    <a:ext cx="1217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Object 6"/>
          <p:cNvGraphicFramePr/>
          <p:nvPr/>
        </p:nvGraphicFramePr>
        <p:xfrm>
          <a:off x="5500800" y="3500280"/>
          <a:ext cx="1149120" cy="100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0800" y="3500280"/>
                    <a:ext cx="1149120" cy="10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7"/>
          <p:cNvGraphicFramePr/>
          <p:nvPr/>
        </p:nvGraphicFramePr>
        <p:xfrm>
          <a:off x="5786280" y="4976640"/>
          <a:ext cx="1052640" cy="452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86280" y="4976640"/>
                    <a:ext cx="10526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571680" y="1000080"/>
            <a:ext cx="82245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浓度一定，水和药的用量成（   ）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长方体的体积一定，长方体的底面积与（    ）成反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定时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（   ）比例；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定时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（  ）比例。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均不等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143760" y="171468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7929720" y="235728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6"/>
          <p:cNvSpPr/>
          <p:nvPr/>
        </p:nvSpPr>
        <p:spPr>
          <a:xfrm>
            <a:off x="6072120" y="36432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3429000" y="42861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539640" y="9698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下面各组相关联的量，分别组成两个正比例关系式和一个反比例关系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筑路总米数、筑路天数和每天筑路米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Object 17"/>
          <p:cNvGraphicFramePr/>
          <p:nvPr/>
        </p:nvGraphicFramePr>
        <p:xfrm>
          <a:off x="1714680" y="2500200"/>
          <a:ext cx="550044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2500200"/>
                    <a:ext cx="55004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Object 18"/>
          <p:cNvGraphicFramePr/>
          <p:nvPr/>
        </p:nvGraphicFramePr>
        <p:xfrm>
          <a:off x="1701720" y="3586320"/>
          <a:ext cx="587052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1720" y="3586320"/>
                    <a:ext cx="58705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Object 19"/>
          <p:cNvGraphicFramePr/>
          <p:nvPr/>
        </p:nvGraphicFramePr>
        <p:xfrm>
          <a:off x="1023840" y="4729320"/>
          <a:ext cx="74772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3840" y="4729320"/>
                    <a:ext cx="74772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539640" y="9698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下面各组相关联的量，分别组成两个正比例关系式和一个反比例关系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每天耕地面积、耕地天数和耕地总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0" name="Object 17"/>
          <p:cNvGraphicFramePr/>
          <p:nvPr/>
        </p:nvGraphicFramePr>
        <p:xfrm>
          <a:off x="1689120" y="2500200"/>
          <a:ext cx="550224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2500200"/>
                    <a:ext cx="5502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Object 18"/>
          <p:cNvGraphicFramePr/>
          <p:nvPr/>
        </p:nvGraphicFramePr>
        <p:xfrm>
          <a:off x="1663560" y="3571920"/>
          <a:ext cx="590076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571920"/>
                    <a:ext cx="59007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Object 19"/>
          <p:cNvGraphicFramePr/>
          <p:nvPr/>
        </p:nvGraphicFramePr>
        <p:xfrm>
          <a:off x="985680" y="4714920"/>
          <a:ext cx="750744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5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5680" y="4714920"/>
                    <a:ext cx="75074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539640" y="9810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甲、乙两地相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8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，汽车从甲地驶往乙地，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，如果速度不变，还要多少小时才能到达乙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1544760" y="2589120"/>
            <a:ext cx="63133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还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才能到达乙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8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还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才能到达乙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4"/>
          <p:cNvGrpSpPr/>
          <p:nvPr/>
        </p:nvGrpSpPr>
        <p:grpSpPr>
          <a:xfrm>
            <a:off x="3146400" y="3867120"/>
            <a:ext cx="2210760" cy="947160"/>
            <a:chOff x="3146400" y="3867120"/>
            <a:chExt cx="2210760" cy="947160"/>
          </a:xfrm>
        </p:grpSpPr>
        <p:grpSp>
          <p:nvGrpSpPr>
            <p:cNvPr id="809" name="Group 5"/>
            <p:cNvGrpSpPr/>
            <p:nvPr/>
          </p:nvGrpSpPr>
          <p:grpSpPr>
            <a:xfrm>
              <a:off x="3505320" y="3867120"/>
              <a:ext cx="1851840" cy="947160"/>
              <a:chOff x="3505320" y="3867120"/>
              <a:chExt cx="1851840" cy="947160"/>
            </a:xfrm>
          </p:grpSpPr>
          <p:sp>
            <p:nvSpPr>
              <p:cNvPr id="810" name="Rectangle 6"/>
              <p:cNvSpPr/>
              <p:nvPr/>
            </p:nvSpPr>
            <p:spPr>
              <a:xfrm>
                <a:off x="3505320" y="3867120"/>
                <a:ext cx="18518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20×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6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7"/>
              <p:cNvSpPr/>
              <p:nvPr/>
            </p:nvSpPr>
            <p:spPr>
              <a:xfrm>
                <a:off x="3785040" y="4324320"/>
                <a:ext cx="126000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Rectangle 8"/>
            <p:cNvSpPr/>
            <p:nvPr/>
          </p:nvSpPr>
          <p:spPr>
            <a:xfrm>
              <a:off x="3146400" y="4054320"/>
              <a:ext cx="102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2"/>
          <p:cNvSpPr/>
          <p:nvPr/>
        </p:nvSpPr>
        <p:spPr>
          <a:xfrm>
            <a:off x="1071720" y="928800"/>
            <a:ext cx="7500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修一条路，已修的长度是未修的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修长度与未修长度的比是几比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未修长度与全长的比是几比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修与未修的长度差与已修长度的比是几比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1"/>
          <p:cNvSpPr/>
          <p:nvPr/>
        </p:nvSpPr>
        <p:spPr>
          <a:xfrm>
            <a:off x="3588120" y="219060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5" name="Object 28"/>
          <p:cNvGraphicFramePr/>
          <p:nvPr/>
        </p:nvGraphicFramePr>
        <p:xfrm>
          <a:off x="7000920" y="1143000"/>
          <a:ext cx="35712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0920" y="1143000"/>
                    <a:ext cx="35712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Rectangle 21"/>
          <p:cNvSpPr/>
          <p:nvPr/>
        </p:nvSpPr>
        <p:spPr>
          <a:xfrm>
            <a:off x="3571200" y="304812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21"/>
          <p:cNvSpPr/>
          <p:nvPr/>
        </p:nvSpPr>
        <p:spPr>
          <a:xfrm>
            <a:off x="3624480" y="390528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"/>
          <p:cNvSpPr/>
          <p:nvPr/>
        </p:nvSpPr>
        <p:spPr>
          <a:xfrm>
            <a:off x="857160" y="442908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小麦的袋数比玉米的袋数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玉米袋数与小麦袋数的比是几比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21"/>
          <p:cNvSpPr/>
          <p:nvPr/>
        </p:nvSpPr>
        <p:spPr>
          <a:xfrm>
            <a:off x="3624480" y="528624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47:45Z</dcterms:created>
  <dc:creator/>
  <dc:description/>
  <dc:language>en-US</dc:language>
  <cp:lastModifiedBy/>
  <dcterms:modified xsi:type="dcterms:W3CDTF">2017-03-15T06:34:25Z</dcterms:modified>
  <cp:revision>1</cp:revision>
  <dc:subject/>
  <dc:title/>
</cp:coreProperties>
</file>